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A69F6-9F1D-4C68-BA19-28779ED2A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5E5D9-88A8-471F-9617-E119AFD7F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BB940-CB27-4C8C-904D-A44A702EA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AACAA-E1FA-4E83-98BE-CE6D9DE90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0CCB9-6AD3-4FAE-9081-F52655DB9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9716-49B7-4011-8CB4-5499D12A9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7F8B8-F41B-4F2A-B406-64BAC82FE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47A32-7D95-4A25-9C9D-20CC221BC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2BE04-9EE5-471C-9CAC-CD817C30B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648D1-F435-4751-9ED8-DD6F3F0F1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FFF13-EBF7-46DB-BD74-0AF80055D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D307-FBD1-438B-866E-1DA991D2D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3A5BD-618A-4E72-AFBC-F84398FAC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59097-C066-44F7-9903-9A55D1EDB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CF2D9-C2FB-4164-9FAE-BDFDC6263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D33A6-6432-4630-9A25-C15969F14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BBFC9-A3B8-49C1-84AF-A39886DC6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FFEA-3419-4218-BAC6-007485237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C4028-3103-4F53-B076-3BE357BD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8358E-ED5A-43A4-9C43-31A65E07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6E8CB-3F7A-4430-BBA6-109BD3B7C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8F79-3714-4362-AC30-333DF2AC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FD3EC-3BBE-4294-B63B-4419838E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E317D-5348-4828-8491-06F4354D0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2A23-F7F2-4D00-8CE1-3A587E928CBA}"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9ECE-A00E-4271-9DDB-970C47530391}"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rimination in Employment</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44792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9</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sh, Angelique, Gary, Jessica, &amp; Ron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1523520"/>
            <a:ext cx="7619760" cy="4953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itle VII of the Civil Rights Act of 196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s employment discrimination </a:t>
            </a:r>
            <a:r>
              <a:rPr b="0" i="1" lang="en-US" sz="2400" spc="-1" strike="noStrike">
                <a:solidFill>
                  <a:srgbClr val="000000"/>
                </a:solidFill>
                <a:latin typeface="Times New Roman"/>
              </a:rPr>
              <a:t>based on race, color, religion, sex, or national orig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itle IX of the Education Amendments Act of 197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s sexual discrimination by public and private educational institutions receiving federal fund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qual Protection Clause of 14th Amend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protection against group discrimination and unfair trea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87" name="PlaceHolder 2"/>
          <p:cNvSpPr>
            <a:spLocks noGrp="1"/>
          </p:cNvSpPr>
          <p:nvPr>
            <p:ph/>
          </p:nvPr>
        </p:nvSpPr>
        <p:spPr>
          <a:xfrm>
            <a:off x="304560" y="1981080"/>
            <a:ext cx="84582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habilitation Act of 1973</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s discrimination against any otherwise qualified person who has a </a:t>
            </a:r>
            <a:r>
              <a:rPr b="0" i="1" lang="en-US" sz="2400" spc="-1" strike="noStrike">
                <a:solidFill>
                  <a:srgbClr val="000000"/>
                </a:solidFill>
                <a:latin typeface="Times New Roman"/>
              </a:rPr>
              <a:t>disability</a:t>
            </a:r>
            <a:r>
              <a:rPr b="0" lang="en-US" sz="2400" spc="-1" strike="noStrike">
                <a:solidFill>
                  <a:srgbClr val="000000"/>
                </a:solidFill>
                <a:latin typeface="Times New Roman"/>
              </a:rPr>
              <a:t> with respect to employment, training, compensation, promotion, fringe benefits, and terms and conditions of employmen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mericans with Disabilities Act of 1990</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s individuals with disabilities against discrimination and assures equal access to opport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ffirmative Action - Proposition 209</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ans to eliminate affirmative action programs supported by governmental agencie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hibits discrimination and preferential treatment on the basis of race, sex, ethnicity, color, or national origin.</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ues prohibiting discrimin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ge Discrimination Act in Employment Act of 1967</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hibit forced retirement of employe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egnancy Discrimination Act of 1978</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ment to Title VII which protects pregnant employees against any form of discrimination based on pregna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reas protected…</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exual Harassment</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hibited by Title VII and Title IX</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ssues involving National Origin: Proposition 187</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cted in 1994 denies public social services to people who are unable to establish there status as U.S. citizens, lawful permanent residents, or aliens lawfully admitted for certain period of tim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onsider this to violate the equal protection clause of the 14th amendment.</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ne of the most controversial issues and still being deb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04:00Z</dcterms:created>
  <dc:creator>Roni  Dorsey</dc:creator>
  <dc:description/>
  <dc:language>en-US</dc:language>
  <cp:lastModifiedBy>Roni  Dorsey</cp:lastModifiedBy>
  <dcterms:modified xsi:type="dcterms:W3CDTF">2009-07-21T04:52:05Z</dcterms:modified>
  <cp:revision>1</cp:revision>
  <dc:subject/>
  <dc:title>Discrimination in Employment</dc:title>
</cp:coreProperties>
</file>